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AE60-ED1D-4DE1-ABF3-C7997B1A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44B-62C0-42E4-BBDE-06272B9C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9C4-9D7D-469F-A8A3-65628FAC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722-62B1-4FB2-A49C-31B2540F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99C-B513-46D8-8BE4-42D1D015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6D4-EA73-4125-A31E-23D5EFD8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66A5-12F0-4A00-8722-278C6DAA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41F-E9EC-4842-AFDD-AC2798F5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998-4074-45E4-A400-9F8841C2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E840-B489-49DF-A3C7-5EF2B8AB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18E-1A62-48C3-8169-66BC54CB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D41-5A57-4E48-87E2-EEE30023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8ABD-A78B-414D-B354-5F559B4E5B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440D-E0CC-4E45-A688-99ED98404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ffin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mon 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igopul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sh Sti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ceteris paribus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234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else held con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n’t evaluate changes in economy when looking at multiple variab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ize the law of supp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aw a supply cur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a producer you want to sell more when the price is hig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 the difference between a subsidy and an excise ta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207396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bsidies are gov’t payments to lower the price…we buy m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cise taxes are meant to raise the price…we buy l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ost expensive cost of production for most business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B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234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are fixed and variable costs differ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vide on example of ea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1828080"/>
            <a:ext cx="7086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xed costs, like capital, can be bought once and reused…pitc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ariable costs, like land and labor, need to be bought each time…like lem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mmarize the Law of Dem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aw &amp; label a demand cur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es marginal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30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TRA or ONE M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do you find happiness?  Draw it on the boa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26226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more unhappy whenever the market price is set too high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207216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ducer is unhappy because of the excess supply.  They have a surplus of their product, which means they are losing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23482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would the government use a price ceil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ive an example of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179784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ce ceilings used to keep prices down so we can afford to buy the INELASTIC things we have 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ce ceiling on milk or 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question do you ask yourself to determine which curve will shif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it affect the cost of producing the produc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a consumer, you buy more when the price is 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207216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the price of milk goes up, what will happen to the cost of buying cere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l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1250640"/>
            <a:ext cx="624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k and cereal are complements…if the price of milk goes up, we buy less milk.  Buying less milk results in less demand for buying cereal.  A decrease in demand shifts the curve to the left, reducing price and quant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market power.  As a producer do you want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179640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ket Power is the ability to change pri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s, you want it because market power is what allows you to make a prof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207072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are price fixing with price w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consumers, which do we pref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1524960"/>
            <a:ext cx="624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ice fixing involves agreeing to keep prices high while price wars involve fighting to have the lower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consumers we like to see price w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47920" y="2895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are PC, MC, O, &amp; M in terms of their market pow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st running least to great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ill most limit how much money you can make as a busi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mber of competitors…that’s why market power is so critic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want to buy more of something, which way does the demand curve shif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47920" y="26208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can producers use price discrimination to make more mone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974880"/>
            <a:ext cx="624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charging people based on what they are willing to pay they can make more money.  If someone will pay $1.00 for a candy bar let them.  If someone else would pay $2.00 then charge them 2.0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ake more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24160"/>
            <a:ext cx="624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long can cockroaches live after their heads have been cut off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 minu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5 hou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 day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 mont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944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 day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1526760"/>
            <a:ext cx="624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trees does it take to print the Sunday edition of the New York Tim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3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9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 m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) 43,000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95280" y="1553760"/>
            <a:ext cx="624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uch liquid (in weight) can the average disposable diaper hol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0 ou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5 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 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 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69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 pou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1522080"/>
            <a:ext cx="624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w many hamburgers has McDonald’s sold since ope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5 m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300 m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35 b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100 b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24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ve the Mac…over 100 bill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31680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the 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261936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founded economics?  What book did he write?  What year was it publish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1524960"/>
            <a:ext cx="624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fine elasticity of demand.  Give one example of an inelastic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the producer do you want to raise or lower the price on an inelastic goo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974880"/>
            <a:ext cx="624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asticity measures how we react to a change in pri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 things, INELASTIC, we always have to buy so quantity is basically constant.  Other things we will stop buy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elastic we have to buy so you want to raise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28936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me one substitute and one complement for a hambur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28969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bstitute--piz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plement--milksh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Lewisburg Area School District</cp:lastModifiedBy>
  <dcterms:modified xsi:type="dcterms:W3CDTF">2008-03-24T01:35:49Z</dcterms:modified>
  <cp:revision>35</cp:revision>
  <dc:subject/>
  <dc:title>Blank Jeopardy</dc:title>
</cp:coreProperties>
</file>